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00DD-74A5-4F46-A59F-410EDAA98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1FFE-7C6A-4581-B71F-32B0844F7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D2F8-BCD1-4FA8-A723-C9B8BFED5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62E3-77A6-4696-AAC3-3E599BBD9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E7FE-EF0C-4645-BF6D-B17838431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7423-8D06-41A6-AC95-376B0F42E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you might need to check that students don’t confuse tense (past/present) with voice (first/third person). Reinforce use of terminology with examples, as shown on the slide. You can check understanding by asking students to carry on the narrative in the same tense e.g. There was someone at the front door. I held my breath. I couldn’t move in case I made a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boots are strange and heavy on my feet. I can hardly lift them as I trudge slowly towards the school g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67F1-C31B-421A-BE25-563E18851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3D3C-3658-4C94-BF64-50EF089A1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0CBB-9648-4981-9600-948282885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07D7-5EBF-4CBF-B8B0-BA031DECA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89407-E07A-49FF-84BB-1D4C5ACFE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08BCC-87C3-445D-B429-4CE4D2F19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909E1-1395-47E3-A8F7-9A441CCEF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3B8B9-70B1-4168-9DA5-92DCD9D41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B37A0-FA9E-4A0A-A04D-1D92D41E9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51327-1A3A-41E6-A034-18101D42A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1DEFF-95CC-4D1D-BCB3-D6FD3054B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92459-3578-467C-8BFA-A2202D191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8A9C2-D51A-4F84-B99D-ED6F6B05B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51B6B-898F-4EF9-B868-24FCC1D0B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BFD8A-8ED0-42BB-A7EA-937FE9CD7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3A93B-2125-4682-A57C-4A3C80921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DAE51-A884-4C1A-B683-A08CCAAA1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ED37F-89F9-4A92-B7EC-E391CCC48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1405C-02EC-458D-80C5-5085E936F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BA034-F60C-48CD-A04C-CAA8779FB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D997D-3426-4690-87CA-9D7243412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A5FA-8C7A-4D70-9B46-5EC899BC0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2A7B-7A7C-4F2B-92C7-39CE6018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6EC2F-AFB9-4068-A816-A5BEEF54F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A033C-63EF-4E3F-A839-BD8BFD0FE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7A4C-2E47-42BA-9E22-C36EEC65E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F241-02D0-43F8-B56E-F044DFA45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F7AB6-4165-4256-A188-BCDB1CC5A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DB35-CE2C-4280-9F3F-6BBEC639C2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66C9-4BF4-4CD3-BFEA-70BB3A2136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Narrative Choices</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rrative Viewpoint and Voi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en we read, we “see” images in our mind and “hear” a voice in our heads.</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riters can choose whose “eyes” we see  through and whose “voice” we hear telling the story.</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ad the extracts on the next 2 slides and deci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se eyes do we see throu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eir voice sound l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 you reac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t>
            </a:r>
            <a:r>
              <a:rPr b="0" i="1" lang="en-GB" sz="2000" spc="-1" strike="noStrike">
                <a:solidFill>
                  <a:srgbClr val="000000"/>
                </a:solidFill>
                <a:latin typeface="Arial"/>
              </a:rPr>
              <a:t>Millions</a:t>
            </a:r>
            <a:r>
              <a:rPr b="0" lang="en-GB" sz="2000" spc="-1" strike="noStrike">
                <a:solidFill>
                  <a:srgbClr val="000000"/>
                </a:solidFill>
                <a:latin typeface="Arial"/>
              </a:rPr>
              <a:t> by Frank Cottrell Boyce, Damian hides the stolen money in the loft in his old house, which he thinks is empty….</a:t>
            </a:r>
            <a:r>
              <a:rPr b="0" lang="en-GB" sz="3400" spc="-1" strike="noStrike">
                <a:solidFill>
                  <a:srgbClr val="000000"/>
                </a:solidFill>
                <a:latin typeface="Arial"/>
              </a:rPr>
              <a:t> </a:t>
            </a:r>
            <a:endParaRPr b="0" lang="en-US" sz="3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was just pushing the lower half of the ladder back up when I heard it. There was someone at the front door. I held my breath. It was OK. They couldn’t get in. I slid my hand into my pocket to make sure the key was still there. It wasn’t. I’d left it in the front door. I could hear it turning in the lock now. I raced back up the ladder and hauled it after me. When I reached down to pull the hatch back up, I could hear someone coming up the stairs. I quickly pulled the hatch back into place and scrabbled over to the water tank, holding my br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t>
            </a:r>
            <a:r>
              <a:rPr b="0" i="1" lang="en-GB" sz="2400" spc="-1" strike="noStrike">
                <a:solidFill>
                  <a:srgbClr val="000000"/>
                </a:solidFill>
                <a:latin typeface="Arial"/>
              </a:rPr>
              <a:t>The Other Side of Truth</a:t>
            </a:r>
            <a:r>
              <a:rPr b="0" lang="en-GB" sz="2400" spc="-1" strike="noStrike">
                <a:solidFill>
                  <a:srgbClr val="000000"/>
                </a:solidFill>
                <a:latin typeface="Arial"/>
              </a:rPr>
              <a:t> by Beverly Naidoo, the story starts with a flashback to a terrible event…</a:t>
            </a:r>
            <a:endParaRPr b="0" lang="en-US" sz="24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de is slipping her English book into her schoolbag when Mama</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reams. Two sharp cracks splinter the air. She hears her father’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ierce cry, rising, falling.</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o! No!”</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revving of a car and skidding of tyres smother his voice.</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 bag topples from the bed, spilling books, pen and pencil to the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loor. She races to the verandah, pushing past Femi in the doorway.</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s body is wooden with fright.</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Mama mi?” she whisper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pa is kneeling in the driveway, Mama partly curled up against him.</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e bare leg stretches out in front of her. His strong hands grip her,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ying to halt the growing scarlet monster. But it has already spread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 her bright white nurse’s uniform. It stains the earth around them.</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few seconds, that is all. Later, it will always seem much lo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Private Peaceful by Michael Morpurgo, the narrator is Tommo, Charlie’s brother. He tells the story in flashback, looking back over his life with his brother, who faces a firing squad in the First World War.</a:t>
            </a:r>
            <a:endParaRPr b="0" lang="en-US" sz="2000" spc="-1" strike="noStrike">
              <a:solidFill>
                <a:srgbClr val="000000"/>
              </a:solidFill>
              <a:latin typeface="Arial"/>
            </a:endParaRPr>
          </a:p>
        </p:txBody>
      </p:sp>
      <p:sp>
        <p:nvSpPr>
          <p:cNvPr id="109" name="PlaceHolder 2"/>
          <p:cNvSpPr>
            <a:spLocks noGrp="1"/>
          </p:cNvSpPr>
          <p:nvPr>
            <p:ph/>
          </p:nvPr>
        </p:nvSpPr>
        <p:spPr>
          <a:xfrm>
            <a:off x="457200" y="1599840"/>
            <a:ext cx="8229600" cy="48531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e is the voice of Tommo as an eighteen-year-old soldier:</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 want to try to remember everything, just as it was, just as it happened.</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ve had nearly eighteen years of yesterdays and tomorrows, and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night I must remember as many of them as I can. I want tonight to b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 long as my life, not filled with fleeting dreams that rush me o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wards dawn.</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nd here is the voice of Tommo as a child starting schoo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ie is taking me by the hand, leading me because he knows I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want to go. I’ve never worn a collar before and it’s choking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 My boots are strange and heavy on my feet. My heart is heavy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because I dread what I am going to. Charlie has told me ofte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errible this school-place is: about Mr Munnings and hi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ging tempers and the long whipping cane he hangs on the wall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his desk. I don’t want to go with Charlie. I don’t want to go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ch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So, writers can choose….</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irst person narrat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rlie is taking me by the hand. I do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nt to go to sch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ird person narrat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de is slipping her English book into 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hoolbag when Mama scre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ast t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was someone at the front door. I h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 breath.</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esent t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 boots are strange and heavy on my f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Writers can tell a story…</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e order in which events happe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rough flashback to events that happened earlie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om one viewpoint or more than 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o think about:</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some advantages of telling a story in the first pers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some disadvantag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might you choose the present tense to tell a 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o try:</a:t>
            </a:r>
            <a:endParaRPr b="0" lang="en-US" sz="3800" spc="-1" strike="noStrike">
              <a:solidFill>
                <a:srgbClr val="000000"/>
              </a:solidFill>
              <a:latin typeface="Arial"/>
            </a:endParaRPr>
          </a:p>
        </p:txBody>
      </p:sp>
      <p:sp>
        <p:nvSpPr>
          <p:cNvPr id="119" name="PlaceHolder 2"/>
          <p:cNvSpPr>
            <a:spLocks noGrp="1"/>
          </p:cNvSpPr>
          <p:nvPr>
            <p:ph/>
          </p:nvPr>
        </p:nvSpPr>
        <p:spPr>
          <a:xfrm>
            <a:off x="457200" y="1600200"/>
            <a:ext cx="8229600" cy="47815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ie is taking me by the hand, leading me because he knows I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want to go. I’ve never worn a collar before and it’s choking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 My boots are strange and heavy on my feet. My heart is heavy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because I dread what I am going to. Charlie has told me often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errible this school-place is: about Mr Munnings and his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ging tempers and the long whipping cane he hangs on the wall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his desk. I don’t want to go with Charlie. I don’t want to go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chool.</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HANGE</a:t>
            </a:r>
            <a:endParaRPr b="0" lang="en-US" sz="2000" spc="-1" strike="noStrike">
              <a:solidFill>
                <a:srgbClr val="000000"/>
              </a:solidFill>
              <a:latin typeface="Arial"/>
            </a:endParaRPr>
          </a:p>
          <a:p>
            <a:pPr marL="332640" indent="-3326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tense to past tense</a:t>
            </a:r>
            <a:endParaRPr b="0" lang="en-US" sz="2000" spc="-1" strike="noStrike">
              <a:solidFill>
                <a:srgbClr val="000000"/>
              </a:solidFill>
              <a:latin typeface="Arial"/>
            </a:endParaRPr>
          </a:p>
          <a:p>
            <a:pPr marL="332640" indent="-3326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person to third person </a:t>
            </a:r>
            <a:endParaRPr b="0" lang="en-US" sz="2000" spc="-1" strike="noStrike">
              <a:solidFill>
                <a:srgbClr val="000000"/>
              </a:solidFill>
              <a:latin typeface="Arial"/>
            </a:endParaRPr>
          </a:p>
          <a:p>
            <a:pPr marL="332640" indent="-3326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rite this scene from Mr Munnings’ viewpoint, as he watches Charlie dragging Tommo to school.</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version do you like the b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0:52:47Z</dcterms:created>
  <dc:creator>Helen Lines</dc:creator>
  <dc:description/>
  <dc:language>en-US</dc:language>
  <cp:lastModifiedBy>GSE</cp:lastModifiedBy>
  <dcterms:modified xsi:type="dcterms:W3CDTF">2012-02-18T18:51:18Z</dcterms:modified>
  <cp:revision>39</cp:revision>
  <dc:subject/>
  <dc:title>Narrative Choices</dc:title>
</cp:coreProperties>
</file>